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6BE3B-3C8A-4863-AB06-C5F998E167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947C8-DE62-4D5B-9190-146360636F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228816-9CE1-4F9F-81A2-AC05309D17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059633-83A4-4B2E-930B-64E805763E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242D3E-B456-4C80-8554-604847FC06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4C623D-960D-48DB-B251-97D374A9C04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AB1C8-9720-41ED-97D9-E6C8BBC403C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12E70-9A7A-43D0-B5DC-34726FBC57C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B4401-3BCF-4F03-A666-A42202F423D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39EA2-55EC-41DB-AAFA-8B0D96C3BD3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8C656-8A74-4366-864A-BAFC7963D41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58C6B-7048-421E-8B08-5548D1FC913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C9ACB-1CED-4601-BA75-2D9EFB6CA4C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A8B17A-C636-4ACB-9F36-E34123E781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A83DC-0FBB-4E8B-B018-A892A791DE0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80BE9-07A1-4DE5-909C-8E4D40DA472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24AC7-B024-471F-B2A6-64BC4EAC30E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C1C6B-5506-4BB0-B6E7-15C08C98B62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6EF07-D033-4F3C-8804-D24902D60BA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97F043-8DE2-4F00-BFFF-6C55E46C54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12D8FC-EB78-47A0-A382-D90B235870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442F69-BDB2-41CD-9A1A-7DE1B710F1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22428A-4735-42BA-A1E5-CC484DF974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9777BB-07EF-4631-A0D6-7699760F51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46CFD2-7088-41C8-8876-AA03E2F56E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1F2CE4-2FCD-4A9B-96BE-A9F3838617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Improvement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D2ED5-2E99-4D46-B263-69790ACBD4E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4" name="Picture 5" descr="paho_286_logo"/>
          <p:cNvPicPr/>
          <p:nvPr/>
        </p:nvPicPr>
        <p:blipFill>
          <a:blip r:embed="rId2"/>
          <a:stretch/>
        </p:blipFill>
        <p:spPr>
          <a:xfrm>
            <a:off x="7696080" y="6211800"/>
            <a:ext cx="1371600" cy="5698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7" descr="2BSLATH"/>
          <p:cNvPicPr/>
          <p:nvPr/>
        </p:nvPicPr>
        <p:blipFill>
          <a:blip r:embed="rId3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" descr="HHS-Logo-blue"/>
          <p:cNvPicPr/>
          <p:nvPr/>
        </p:nvPicPr>
        <p:blipFill>
          <a:blip r:embed="rId4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6" descr="WHO-EN-C-H"/>
          <p:cNvPicPr/>
          <p:nvPr/>
        </p:nvPicPr>
        <p:blipFill>
          <a:blip r:embed="rId5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5888D-FEAB-43B7-B058-215ABFF969E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Footer Placeholder 1"/>
          <p:cNvSpPr/>
          <p:nvPr/>
        </p:nvSpPr>
        <p:spPr>
          <a:xfrm>
            <a:off x="457200" y="6429240"/>
            <a:ext cx="281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lide Number Placeholder 2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42CC3-6C61-4104-811D-F58CE320756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99600"/>
            <a:ext cx="312408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итуац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560" y="1062000"/>
            <a:ext cx="8458200" cy="526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89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Verdana"/>
              </a:rPr>
              <a:t>«В вашей лаборатории были выявлены проблемы с пробами, поступающими в лабораторию из определенной поликлиники. Некоторые пробы транспортировались в лабораторию явно с задержкой, а ряд проб был собран в неподходящие контейнеры. Эти проблемы приводили к задержкам в выполнении анализов и к отказам в приеме проб. Для исправления ситуации был проведен ряд улучшений в ведении записей и на месте сбора проб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990720" y="4876920"/>
            <a:ext cx="7772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Olga</cp:lastModifiedBy>
  <dcterms:modified xsi:type="dcterms:W3CDTF">2012-08-04T06:45:48Z</dcterms:modified>
  <cp:revision>66</cp:revision>
  <dc:subject/>
  <dc:title>Slide 1</dc:title>
</cp:coreProperties>
</file>